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839-8742-4C38-B372-F1752271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B74-1EF8-42EB-9125-26F05592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175-1267-4DE4-B13D-01A656F6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D48-D9EF-423F-84F3-885648B4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ED1-9E59-41D4-8C20-6C472BEE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8F4-42E1-4757-8DF3-276D509C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054-CEA3-4FEB-B72F-51EAE2EA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550-84D3-4851-90D7-9CC58B41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96D-9AA1-475F-A30F-9EFB6B0D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DA7-1FAC-487B-B84E-7142683B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D39-9382-437F-9294-9F10D620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771-1BC0-4D59-8F9E-CE9E7705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EB25-433F-461C-AAFA-3F63FC023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4-3 Naming Compounds/Writing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9144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cribing Ionic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447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ame of an ionic compoun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ust distinguish the compound from other ionic compounds containing the same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209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rmula of an ionic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ompound describes the ratio of ions in the comp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819520"/>
            <a:ext cx="8305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Ionic Compound: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ade from only 2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aming binar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ompounds easy:  cation comes first, then the a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733920"/>
            <a:ext cx="7467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*Remember, the nam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for the anion uses part of the name of the non metal with the suffix –ide.  (see figure 16 on page 17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tion nam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s just the name of the me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als with multiple 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762120"/>
            <a:ext cx="8381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ransition metal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form more than one type of 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X: Copper with 1+ char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per with 2+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opper (I) ion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  copper (II)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0574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an numeral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dicate the charge of the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438280"/>
            <a:ext cx="76197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writing the formulas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ust balance out the ion charg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copper one oxide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 because it takes two Cu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1+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to balance the O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2-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81280"/>
            <a:ext cx="830592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lyatomic 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valently bonde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roup of atoms that has a positve or negative charge AND acts as on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st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nions (meaning they have a – ch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figure 18 (draw into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arenthesis in a formul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dicate a polyatomic ion is included:  Fe(</a:t>
            </a:r>
            <a:r>
              <a:rPr b="0" i="1" lang="en-US" sz="2000" spc="-1" strike="noStrike">
                <a:solidFill>
                  <a:srgbClr val="cc3300"/>
                </a:solidFill>
                <a:latin typeface="Times New Roman"/>
              </a:rPr>
              <a:t>OH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at this means i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at a polyatomic ion made up of 3 hydroxide (OH) ions bonded to one iron 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2193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riting formulas for Ionic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676520"/>
            <a:ext cx="845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ut th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ation symbol first, then the anion symbo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se subscript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o show the ratio of the ions in the comp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otal charg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f the compound is ne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200400"/>
            <a:ext cx="792504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Sulfur (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ains 2 e-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cts with sodium (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loses one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re must b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2 sodium ions (Na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) for each sulfide ion (S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2-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o balance out the charges ….so Na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4:03:33Z</dcterms:created>
  <dc:creator>Farwell Area Schools</dc:creator>
  <dc:description/>
  <dc:language>en-US</dc:language>
  <cp:lastModifiedBy>Customer</cp:lastModifiedBy>
  <dcterms:modified xsi:type="dcterms:W3CDTF">2009-11-03T13:46:14Z</dcterms:modified>
  <cp:revision>9</cp:revision>
  <dc:subject/>
  <dc:title>Note Guide 4-3 Naming Compounds/Writing formulas</dc:title>
</cp:coreProperties>
</file>